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Click to move the slide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F668-D7F7-47E3-986A-562881C1D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641C-531C-40DB-BD1D-3A8B0DCCD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ch Data of QDR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y reuse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gnificance or Picture to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quate margin is achiev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n complex source source synch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as much of environment as possible (data,models, environment, DV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C988-F24C-4C95-BF10-4F8FACB71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ch Data of QDR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y reuse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gnificance or Picture to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quate margin is achiev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n complex source source synch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as much of environment as possible (data,models, environment, DV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ACB1-2859-4F69-9FD2-D739BF90D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ch Data of QDR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y reuse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gnificance or Picture to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quate margin is achiev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n complex source source synch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as much of environment as possible (data,models, environment, DV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DDCD-377D-4399-A41F-97E0B72D2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ch Data of QDR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y reuse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gnificance or Picture to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quate margin is achiev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n complex source source synch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as much of environment as possible (data,models, environment, DV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8D16-0E34-42A9-A7E5-2B54143E1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ch Data of QDR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y reuse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gnificance or Picture to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quate margin is achiev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n complex source source synch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as much of environment as possible (data,models, environment, DV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DC60-173B-40C6-B393-C910C7D5E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ch Data of QDR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y reuse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gnificance or Picture to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quate margin is achiev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n complex source source synch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as much of environment as possible (data,models, environment, DV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36ED-D46B-421D-A474-0D5A64CFD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ch Data of QDR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y reuse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gnificance or Picture to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quate margin is achiev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n complex source source synch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as much of environment as possible (data,models, environment, DV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A2FC-A065-423A-A289-98AC57557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ch Data of QDR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y reuse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gnificance or Picture to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quate margin is achiev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n complex source source synch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as much of environment as possible (data,models, environment, DV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933A-3465-470C-9B99-D78682310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ch Data of QDR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y reuse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gnificance or Picture to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quate margin is achiev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n complex source source synch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as much of environment as possible (data,models, environment, DV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DD7A-B682-4586-B464-A34B983E8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4E5E1-7900-480A-AF84-D3EBFBFD0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46BB-F94E-4FFF-8AB2-ABA19E197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02AD-79A0-4BFE-9011-6572286E4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A4A6-5004-434D-985B-896D2035E9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45DB-4A0A-4866-9790-03C965383C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EDEB-1A1B-4E47-ACBB-55DCDD7512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A130-5A7F-4B6C-B3D7-7E7641E220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F059-E897-486A-A24A-1AD036AA0C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0AD-F88C-4FA0-9DDC-62DE882D86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7F1-7D19-4459-9579-6E08757100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0185-3421-4305-90F5-2D7417216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B1B-6415-4C2D-AF8E-BE802D4FBB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B5E9-491A-46C2-BCBB-2D9DC588C4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01EE-BFDA-406C-B4B6-9B94367614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200-C5FE-4B7D-B851-B3AB00A48B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886-87E7-4430-AC0E-F113FE4684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7592D-5D0D-47D7-B07F-CBF5197D4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DD9C-630E-45AC-8919-CF71EC5CF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F7D2-6787-439E-8F99-9400F59F3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ACC4-A196-45B2-93F2-F0A028409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495F-23C1-4869-BB5C-3959940FE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1D74-39B3-4F8E-A403-25AA96C53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83CF-6B46-4B1D-9F8C-2552F2F31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801720" indent="-1684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096920" indent="-181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4" marL="1378080" indent="-1666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5" marL="1378080" indent="-1666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6" marL="1378080" indent="-1666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05320" y="62672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B0A7-B7F2-498C-8E24-70952DA83181}" type="slidenum">
              <a:rPr b="0" lang="en-US" sz="10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20600" y="6297480"/>
            <a:ext cx="1033560" cy="3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744880" y="6202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sian IBIS Summ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5160" y="1676160"/>
            <a:ext cx="77724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3"/>
          </p:nvPr>
        </p:nvSpPr>
        <p:spPr>
          <a:xfrm>
            <a:off x="3514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9D31-7E98-47EF-A59A-56957C58E7E5}" type="slidenum">
              <a:rPr b="0" lang="en-US" sz="10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03200" y="318960"/>
            <a:ext cx="1811520" cy="695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45240" y="620244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ian IBIS Summ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63324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3" marL="915840" algn="ctr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4" marL="1211400" algn="ctr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5" marL="1211400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6" marL="1211400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5160" y="1676160"/>
            <a:ext cx="77724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 Narrow"/>
              </a:rPr>
              <a:t>IBIS Models for DDR2 Analysis</a:t>
            </a:r>
            <a:br>
              <a:rPr sz="3600"/>
            </a:b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Asian IBIS Summit 2005 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809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arry Katz, President and CTO, SiSof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3B2-B000-4B85-8D38-B319D5274262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DDR2 I/O Buffer Modeling Challenges</a:t>
            </a:r>
            <a:br>
              <a:rPr sz="3200"/>
            </a:br>
            <a:r>
              <a:rPr b="0" lang="en-US" sz="20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ODT Modeling in IBIS</a:t>
            </a:r>
            <a:br>
              <a:rPr sz="1600"/>
            </a:br>
            <a:endParaRPr b="0" lang="en-US" sz="20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ree options for ODT mode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3720" indent="-174240">
              <a:spcBef>
                <a:spcPts val="601"/>
              </a:spcBef>
              <a:buClr>
                <a:srgbClr val="ffffff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6 separate I-V curv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793440" indent="-16668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ormal [Pullup], [Pulldown], [POWER Clamp] and [GND Clamp] tabl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793440" indent="-16668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DT I-V curves included as [Submodel] tabl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793440" indent="-16668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[Submodel] usage creates portability issu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3720" indent="-174240">
              <a:spcBef>
                <a:spcPts val="601"/>
              </a:spcBef>
              <a:buClr>
                <a:srgbClr val="ffffff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parate receive ODT-enabled mod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793440" indent="-16668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Requires switching in of separate mod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793440" indent="-16668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ncreases complexity of simulat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793440" indent="-16668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parate simulations for every cas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3720" indent="-174240">
              <a:spcBef>
                <a:spcPts val="601"/>
              </a:spcBef>
              <a:buClr>
                <a:srgbClr val="ffffff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4 I-V curve model with ODT enabled in receive mod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793440" indent="-16668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orks well, but makes IBIS [Pullup] and [Pulldown] non-monotonic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3" marL="1085760" indent="-17892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his is OK because sum of [Pullup] and [Pulldown] with Clamp curves is monotoni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4" name=""/>
          <p:cNvSpPr/>
          <p:nvPr/>
        </p:nvSpPr>
        <p:spPr>
          <a:xfrm>
            <a:off x="13762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7624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76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0964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192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6002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5476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7338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376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004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05272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718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7184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1B9B6-4E9B-4044-9E7C-A3EB5833FEE0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DDR2 I/O Buffer Modeling Challenges</a:t>
            </a:r>
            <a:br>
              <a:rPr sz="3200"/>
            </a:br>
            <a:r>
              <a:rPr b="0" lang="en-US" sz="20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ODT Modeling in IBIS – Thevenin ODT approach</a:t>
            </a:r>
            <a:br>
              <a:rPr sz="1600"/>
            </a:br>
            <a:endParaRPr b="0" lang="en-US" sz="20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9400" y="1644120"/>
            <a:ext cx="3368520" cy="4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50 Ω ODT model [GND Clamp]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41640" y="1628640"/>
            <a:ext cx="3749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50 Ω ODT model [POWER Clamp]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0" name=""/>
          <p:cNvSpPr/>
          <p:nvPr/>
        </p:nvSpPr>
        <p:spPr>
          <a:xfrm>
            <a:off x="13762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7624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76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192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6002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5476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376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04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5272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718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463680" y="2112840"/>
            <a:ext cx="3881160" cy="39909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4797360" y="2114640"/>
            <a:ext cx="3954600" cy="3909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2291-6686-41F5-8ACF-68F542EAC73E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98520" y="217440"/>
            <a:ext cx="8745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DDR2 I/O Buffer Modeling Challenges</a:t>
            </a:r>
            <a:br>
              <a:rPr sz="3200"/>
            </a:br>
            <a:r>
              <a:rPr b="0" lang="en-US" sz="2000" spc="-1" strike="noStrike">
                <a:solidFill>
                  <a:srgbClr val="e5ffff"/>
                </a:solidFill>
                <a:latin typeface="Arial Narrow"/>
              </a:rPr>
              <a:t>ODT modeling in IB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0680" y="1571760"/>
            <a:ext cx="422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[Pulldown] with 50 Ω ODT characteristics subtra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220680" y="2222640"/>
            <a:ext cx="4208400" cy="36954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4538520" y="2209680"/>
            <a:ext cx="4365720" cy="3699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689360" y="1542960"/>
            <a:ext cx="4221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[Pullup] with 50 Ω ODT characteristics subtra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EECBB-321F-4B6F-B6A9-2FA1B507820A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898560" y="282600"/>
            <a:ext cx="82454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DDR2 I/O Buffer Modeling Challenges</a:t>
            </a:r>
            <a:br>
              <a:rPr sz="3200"/>
            </a:br>
            <a:r>
              <a:rPr b="0" lang="en-US" sz="2000" spc="-1" strike="noStrike">
                <a:solidFill>
                  <a:srgbClr val="e5ffff"/>
                </a:solidFill>
                <a:latin typeface="Arial Narrow"/>
              </a:rPr>
              <a:t>ODT modeling in IB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47840" y="1546200"/>
            <a:ext cx="421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[Pulldown] combined with [* Clamp] characteristics</a:t>
            </a:r>
            <a:r>
              <a:rPr b="1" lang="en-US" sz="1800" spc="-1" strike="noStrike">
                <a:solidFill>
                  <a:srgbClr val="0c2577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303120" y="2303640"/>
            <a:ext cx="4170600" cy="37288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4605480" y="2289240"/>
            <a:ext cx="4363920" cy="37749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4937040" y="1538280"/>
            <a:ext cx="3965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[Pullup] combined with [* Clamp] characteristics</a:t>
            </a:r>
            <a:r>
              <a:rPr b="1" lang="en-US" sz="1800" spc="-1" strike="noStrike">
                <a:solidFill>
                  <a:srgbClr val="0c2577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9D9D-A711-4DC2-8233-E14DA425B581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Future Considerations for IBIS</a:t>
            </a:r>
            <a:br>
              <a:rPr sz="3200"/>
            </a:br>
            <a:r>
              <a:rPr b="0" lang="en-US" sz="2800" spc="-1" strike="noStrike">
                <a:solidFill>
                  <a:srgbClr val="ffff66"/>
                </a:solidFill>
                <a:latin typeface="Arial Narrow"/>
                <a:ea typeface="Times New Roman"/>
              </a:rPr>
              <a:t>Slew-Rate De-Rating Tables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Arial Narrow"/>
            </a:endParaRPr>
          </a:p>
        </p:txBody>
      </p:sp>
      <p:pic>
        <p:nvPicPr>
          <p:cNvPr id="424" name="Tangent_line" descr=""/>
          <p:cNvPicPr/>
          <p:nvPr/>
        </p:nvPicPr>
        <p:blipFill>
          <a:blip r:embed="rId2"/>
          <a:stretch/>
        </p:blipFill>
        <p:spPr>
          <a:xfrm>
            <a:off x="423720" y="3889440"/>
            <a:ext cx="2741760" cy="22240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3762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7624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76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70964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192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002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5476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338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376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04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05272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5718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Linear_line" descr=""/>
          <p:cNvPicPr/>
          <p:nvPr/>
        </p:nvPicPr>
        <p:blipFill>
          <a:blip r:embed="rId3"/>
          <a:stretch/>
        </p:blipFill>
        <p:spPr>
          <a:xfrm>
            <a:off x="423720" y="1239840"/>
            <a:ext cx="2741760" cy="22734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3251160" y="1700280"/>
            <a:ext cx="7772400" cy="381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709C-17BE-46FB-AEC2-65954B8CCA42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888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ffff"/>
                </a:solidFill>
                <a:latin typeface="Arial Narrow"/>
              </a:rPr>
              <a:t>Thank You!</a:t>
            </a:r>
            <a:endParaRPr b="0" lang="en-US" sz="7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8E1F-2BDE-4206-B5EA-28546F79DEDC}" type="slidenum">
              <a:t>15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DDR Overview: </a:t>
            </a:r>
            <a:r>
              <a:rPr b="0" i="1" lang="en-US" sz="20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Theory of Operation</a:t>
            </a:r>
            <a:endParaRPr b="0" lang="en-US" sz="20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ata captured on both clock edg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ata (DQ) driven source synchronously with strobe (DQ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roper source sync operation requires two conditions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QS positioned to meet data Setup/Hold requiremen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ixed relationship between CK and DQS must be maintaine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DR1 Clock (CK) range from 100MHz to 200MHz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Q 200Mbs to 400Mb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DR2 Clock (CK) range from 200MHz to 400MHz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Q 400Mbs to 800Mb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13762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4D0E-04A2-45F2-BEF5-165009EAB1DD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DDR Overview: </a:t>
            </a:r>
            <a:r>
              <a:rPr b="0" i="1" lang="en-US" sz="20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Theory of Operation</a:t>
            </a:r>
            <a:endParaRPr b="0" lang="en-US" sz="20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98720" y="1375920"/>
            <a:ext cx="7588080" cy="29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DR1: 2.5V SST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DR2: 1.8V SST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STL introduces concept of AC and DC level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13762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7624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76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0964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336760" y="2747880"/>
            <a:ext cx="5154480" cy="3470400"/>
            <a:chOff x="2336760" y="2747880"/>
            <a:chExt cx="5154480" cy="3470400"/>
          </a:xfrm>
        </p:grpSpPr>
        <p:pic>
          <p:nvPicPr>
            <p:cNvPr id="101" name="sstl" descr=""/>
            <p:cNvPicPr/>
            <p:nvPr/>
          </p:nvPicPr>
          <p:blipFill>
            <a:blip r:embed="rId2"/>
            <a:srcRect l="0" t="10509" r="0" b="0"/>
            <a:stretch/>
          </p:blipFill>
          <p:spPr>
            <a:xfrm>
              <a:off x="2336760" y="2747880"/>
              <a:ext cx="5154480" cy="34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sstl" descr=""/>
            <p:cNvPicPr/>
            <p:nvPr/>
          </p:nvPicPr>
          <p:blipFill>
            <a:blip r:embed="rId3"/>
            <a:srcRect l="0" t="25207" r="87805" b="24157"/>
            <a:stretch/>
          </p:blipFill>
          <p:spPr>
            <a:xfrm>
              <a:off x="2336760" y="4254480"/>
              <a:ext cx="628560" cy="19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23E86-5D9C-4843-98E5-384E4E11FA2F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06920" y="2538360"/>
            <a:ext cx="4203720" cy="373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DDR System Configurations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0240" y="1376280"/>
            <a:ext cx="8026560" cy="23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DR1: One to four memory modul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DR2: One or Two memory modul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emory Modul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egistered and Unbuffered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4 to 18 memory devic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13762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7624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76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0964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92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37240" y="2556000"/>
            <a:ext cx="3938400" cy="3644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002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DE97-8284-4516-9187-CC773CC4C4DB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DDR2 Enhancements</a:t>
            </a:r>
            <a:br>
              <a:rPr sz="3200"/>
            </a:br>
            <a:r>
              <a:rPr b="0" lang="en-US" sz="24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Moving beyond DDR1</a:t>
            </a:r>
            <a:endParaRPr b="0" lang="en-US" sz="24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spcBef>
                <a:spcPts val="7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echnolog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82760" indent="-1634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BGA Pack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82760" indent="-1634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educed Supply Voltage (1.8V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82760" indent="-1634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ptional Differential DQ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82760" indent="-1634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mproved DIMM routing Topologi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82760" indent="-1634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mproved Load Balanc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82760" indent="-1634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 Narrow"/>
                <a:ea typeface="Times New Roman"/>
              </a:rPr>
              <a:t>On-Die Termination (ODT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745560" indent="-156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Narrow"/>
                <a:ea typeface="Times New Roman"/>
              </a:rPr>
              <a:t>Increases number of combinations to simula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82760" indent="-1634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 Narrow"/>
                <a:ea typeface="Times New Roman"/>
              </a:rPr>
              <a:t>Slew-Rate Derat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745560" indent="-156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Narrow"/>
                <a:ea typeface="Times New Roman"/>
              </a:rPr>
              <a:t>Modifies Setup/Hold requiremen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13762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7624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6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0964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92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338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76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EEF0-5984-428E-AECA-52C57AB1D560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On-Die Termination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Q, DM, DQS signals onl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emory controller defin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ransfer by transfer bas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ependent on loading configur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ultiple values: 50, 75,150, and “off”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educes PCB component cou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implifies system implemen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ncreases analysis complex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13762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7624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76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0964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92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338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6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3759-C546-476B-9E58-BF242CBAAF82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Data Write ODT Configurations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1485360" y="2952720"/>
            <a:ext cx="574920" cy="4604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571760" y="3125880"/>
            <a:ext cx="357120" cy="125280"/>
            <a:chOff x="1571760" y="3125880"/>
            <a:chExt cx="357120" cy="125280"/>
          </a:xfrm>
        </p:grpSpPr>
        <p:sp>
          <p:nvSpPr>
            <p:cNvPr id="138" name=""/>
            <p:cNvSpPr/>
            <p:nvPr/>
          </p:nvSpPr>
          <p:spPr>
            <a:xfrm flipV="1">
              <a:off x="1571760" y="3132000"/>
              <a:ext cx="453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1616760" y="3125880"/>
              <a:ext cx="680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682280" y="3125880"/>
              <a:ext cx="680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1749960" y="3125880"/>
              <a:ext cx="680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815120" y="3125880"/>
              <a:ext cx="680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83520" y="3132000"/>
              <a:ext cx="453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928880" y="3181320"/>
            <a:ext cx="25398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973760" y="2057400"/>
            <a:ext cx="126720" cy="357120"/>
            <a:chOff x="4973760" y="2057400"/>
            <a:chExt cx="126720" cy="357120"/>
          </a:xfrm>
        </p:grpSpPr>
        <p:sp>
          <p:nvSpPr>
            <p:cNvPr id="146" name=""/>
            <p:cNvSpPr/>
            <p:nvPr/>
          </p:nvSpPr>
          <p:spPr>
            <a:xfrm flipH="1" flipV="1">
              <a:off x="4979880" y="2369160"/>
              <a:ext cx="6264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973760" y="2301480"/>
              <a:ext cx="12672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4973760" y="2235960"/>
              <a:ext cx="12672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973760" y="2168280"/>
              <a:ext cx="12672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4973760" y="2103120"/>
              <a:ext cx="12672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979880" y="2057400"/>
              <a:ext cx="6264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973760" y="1596600"/>
            <a:ext cx="126720" cy="358920"/>
            <a:chOff x="4973760" y="1596600"/>
            <a:chExt cx="126720" cy="358920"/>
          </a:xfrm>
        </p:grpSpPr>
        <p:sp>
          <p:nvSpPr>
            <p:cNvPr id="153" name=""/>
            <p:cNvSpPr/>
            <p:nvPr/>
          </p:nvSpPr>
          <p:spPr>
            <a:xfrm flipH="1" flipV="1">
              <a:off x="4979880" y="1909800"/>
              <a:ext cx="6264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973760" y="1841400"/>
              <a:ext cx="12672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4973760" y="1776240"/>
              <a:ext cx="12672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973760" y="1707840"/>
              <a:ext cx="12672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4973760" y="1642320"/>
              <a:ext cx="12672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979880" y="1596600"/>
              <a:ext cx="6264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406400" y="2241720"/>
            <a:ext cx="127080" cy="357120"/>
            <a:chOff x="4406400" y="2241720"/>
            <a:chExt cx="127080" cy="357120"/>
          </a:xfrm>
        </p:grpSpPr>
        <p:sp>
          <p:nvSpPr>
            <p:cNvPr id="160" name=""/>
            <p:cNvSpPr/>
            <p:nvPr/>
          </p:nvSpPr>
          <p:spPr>
            <a:xfrm flipH="1" flipV="1">
              <a:off x="4412520" y="2553480"/>
              <a:ext cx="6300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406400" y="248580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4406400" y="242028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406400" y="235260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4406400" y="228744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412880" y="2241720"/>
              <a:ext cx="6300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467240" y="2598840"/>
            <a:ext cx="0" cy="587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76600" y="200664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35680" y="1943280"/>
            <a:ext cx="0" cy="13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43600" y="1479600"/>
            <a:ext cx="0" cy="11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43600" y="2408400"/>
            <a:ext cx="0" cy="9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76600" y="2000160"/>
            <a:ext cx="801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74000" y="1861200"/>
            <a:ext cx="57852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RCV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46600" y="249156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V</a:t>
            </a:r>
            <a:r>
              <a:rPr b="1" lang="en-US" sz="900" spc="-1" strike="noStrike">
                <a:solidFill>
                  <a:srgbClr val="ffffff"/>
                </a:solidFill>
                <a:latin typeface="Lucida Sans Unicode"/>
              </a:rPr>
              <a:t>SS</a:t>
            </a: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0240" y="124560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V</a:t>
            </a:r>
            <a:r>
              <a:rPr b="1" lang="en-US" sz="900" spc="-1" strike="noStrike">
                <a:solidFill>
                  <a:srgbClr val="ffffff"/>
                </a:solidFill>
                <a:latin typeface="Lucida Sans Unicode"/>
              </a:rPr>
              <a:t>DD</a:t>
            </a: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45640" y="2080440"/>
            <a:ext cx="55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300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40960" y="1621800"/>
            <a:ext cx="55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300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32360" y="1257480"/>
            <a:ext cx="1860480" cy="1546200"/>
          </a:xfrm>
          <a:prstGeom prst="rect">
            <a:avLst/>
          </a:prstGeom>
          <a:noFill/>
          <a:ln w="22320">
            <a:solidFill>
              <a:srgbClr val="0a1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11200" y="2847960"/>
            <a:ext cx="698760" cy="700200"/>
          </a:xfrm>
          <a:prstGeom prst="rect">
            <a:avLst/>
          </a:prstGeom>
          <a:noFill/>
          <a:ln w="2232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13640" y="2614680"/>
            <a:ext cx="15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5ffff"/>
                </a:solidFill>
                <a:latin typeface="Lucida Sans Unicode"/>
              </a:rPr>
              <a:t>System Contro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46560" y="1271520"/>
            <a:ext cx="7524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Ac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1471680" y="5511960"/>
            <a:ext cx="574560" cy="4600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544760" y="5673240"/>
            <a:ext cx="357120" cy="125640"/>
            <a:chOff x="1544760" y="5673240"/>
            <a:chExt cx="357120" cy="125640"/>
          </a:xfrm>
        </p:grpSpPr>
        <p:sp>
          <p:nvSpPr>
            <p:cNvPr id="183" name=""/>
            <p:cNvSpPr/>
            <p:nvPr/>
          </p:nvSpPr>
          <p:spPr>
            <a:xfrm flipV="1">
              <a:off x="1544760" y="5679360"/>
              <a:ext cx="45360" cy="6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1589760" y="5673240"/>
              <a:ext cx="680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1655280" y="5673240"/>
              <a:ext cx="680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1722960" y="5673240"/>
              <a:ext cx="680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788120" y="5673240"/>
              <a:ext cx="680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56520" y="5679720"/>
              <a:ext cx="45360" cy="6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901880" y="5729400"/>
            <a:ext cx="4468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392720" y="4991040"/>
            <a:ext cx="126720" cy="357120"/>
            <a:chOff x="4392720" y="4991040"/>
            <a:chExt cx="126720" cy="357120"/>
          </a:xfrm>
        </p:grpSpPr>
        <p:sp>
          <p:nvSpPr>
            <p:cNvPr id="191" name=""/>
            <p:cNvSpPr/>
            <p:nvPr/>
          </p:nvSpPr>
          <p:spPr>
            <a:xfrm flipH="1" flipV="1">
              <a:off x="4398840" y="5302800"/>
              <a:ext cx="6264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392720" y="5235120"/>
              <a:ext cx="12672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4392720" y="5169600"/>
              <a:ext cx="12672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392720" y="5101920"/>
              <a:ext cx="12672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4392720" y="5036760"/>
              <a:ext cx="12672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398840" y="4991040"/>
              <a:ext cx="6264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460760" y="534816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49600" y="4749840"/>
            <a:ext cx="0" cy="2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49600" y="4749840"/>
            <a:ext cx="389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51000" y="4610880"/>
            <a:ext cx="57852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RCV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17960" y="4006800"/>
            <a:ext cx="1552680" cy="1546200"/>
          </a:xfrm>
          <a:prstGeom prst="rect">
            <a:avLst/>
          </a:prstGeom>
          <a:noFill/>
          <a:ln w="22320">
            <a:solidFill>
              <a:srgbClr val="0a1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97160" y="5369040"/>
            <a:ext cx="712800" cy="699840"/>
          </a:xfrm>
          <a:prstGeom prst="rect">
            <a:avLst/>
          </a:prstGeom>
          <a:noFill/>
          <a:ln w="2232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95840" y="1430280"/>
            <a:ext cx="125820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Sans Unicode"/>
              </a:rPr>
              <a:t>One Modu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Sans Unicode"/>
              </a:rPr>
              <a:t>Popul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19560" y="4021200"/>
            <a:ext cx="7524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Ac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857640" y="4807080"/>
            <a:ext cx="127080" cy="357120"/>
            <a:chOff x="6857640" y="4807080"/>
            <a:chExt cx="127080" cy="357120"/>
          </a:xfrm>
        </p:grpSpPr>
        <p:sp>
          <p:nvSpPr>
            <p:cNvPr id="206" name=""/>
            <p:cNvSpPr/>
            <p:nvPr/>
          </p:nvSpPr>
          <p:spPr>
            <a:xfrm flipH="1" flipV="1">
              <a:off x="6863760" y="5118840"/>
              <a:ext cx="6300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857640" y="505116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6857640" y="498564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857640" y="491796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6857640" y="485280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864120" y="4807080"/>
              <a:ext cx="6300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7640" y="4347000"/>
            <a:ext cx="127080" cy="358200"/>
            <a:chOff x="6857640" y="4347000"/>
            <a:chExt cx="127080" cy="358200"/>
          </a:xfrm>
        </p:grpSpPr>
        <p:sp>
          <p:nvSpPr>
            <p:cNvPr id="213" name=""/>
            <p:cNvSpPr/>
            <p:nvPr/>
          </p:nvSpPr>
          <p:spPr>
            <a:xfrm flipH="1" flipV="1">
              <a:off x="6863760" y="4659840"/>
              <a:ext cx="6300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857640" y="4591440"/>
              <a:ext cx="12708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6857640" y="4525920"/>
              <a:ext cx="12708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857640" y="4457520"/>
              <a:ext cx="12708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6857640" y="4392360"/>
              <a:ext cx="12708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864120" y="4347000"/>
              <a:ext cx="6300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291000" y="4991040"/>
            <a:ext cx="127080" cy="357120"/>
            <a:chOff x="6291000" y="4991040"/>
            <a:chExt cx="127080" cy="357120"/>
          </a:xfrm>
        </p:grpSpPr>
        <p:sp>
          <p:nvSpPr>
            <p:cNvPr id="220" name=""/>
            <p:cNvSpPr/>
            <p:nvPr/>
          </p:nvSpPr>
          <p:spPr>
            <a:xfrm flipH="1" flipV="1">
              <a:off x="6297120" y="5302800"/>
              <a:ext cx="6300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291000" y="523512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291000" y="516960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291000" y="510192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6291000" y="503676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6297480" y="4991040"/>
              <a:ext cx="6300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361200" y="534816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46800" y="4756320"/>
            <a:ext cx="0" cy="231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918480" y="4697280"/>
            <a:ext cx="1440" cy="109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23160" y="4238640"/>
            <a:ext cx="0" cy="9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27840" y="5157720"/>
            <a:ext cx="0" cy="9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45360" y="4749840"/>
            <a:ext cx="573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30840" y="524124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V</a:t>
            </a:r>
            <a:r>
              <a:rPr b="1" lang="en-US" sz="900" spc="-1" strike="noStrike">
                <a:solidFill>
                  <a:srgbClr val="ffffff"/>
                </a:solidFill>
                <a:latin typeface="Lucida Sans Unicode"/>
              </a:rPr>
              <a:t>SS</a:t>
            </a: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84480" y="399492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V</a:t>
            </a:r>
            <a:r>
              <a:rPr b="1" lang="en-US" sz="900" spc="-1" strike="noStrike">
                <a:solidFill>
                  <a:srgbClr val="ffffff"/>
                </a:solidFill>
                <a:latin typeface="Lucida Sans Unicode"/>
              </a:rPr>
              <a:t>DD</a:t>
            </a: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31680" y="4830120"/>
            <a:ext cx="55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150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27000" y="4371120"/>
            <a:ext cx="55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150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16600" y="4006800"/>
            <a:ext cx="1281240" cy="1546200"/>
          </a:xfrm>
          <a:prstGeom prst="rect">
            <a:avLst/>
          </a:prstGeom>
          <a:noFill/>
          <a:ln w="22320">
            <a:solidFill>
              <a:srgbClr val="edb2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7960" y="4021200"/>
            <a:ext cx="8010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Lucida Sans Unicode"/>
              </a:rPr>
              <a:t>Standb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Lucida Sans Unicode"/>
              </a:rPr>
              <a:t>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76400" y="4316400"/>
            <a:ext cx="134820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Sans Unicode"/>
              </a:rPr>
              <a:t>Two Modu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Sans Unicode"/>
              </a:rPr>
              <a:t>Popul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01040" y="5132520"/>
            <a:ext cx="15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5ffff"/>
                </a:solidFill>
                <a:latin typeface="Lucida Sans Unicode"/>
              </a:rPr>
              <a:t>System Contro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2A10-F784-4271-BC62-E8526AE9297F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Data Read Configurations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749240" y="1128600"/>
            <a:ext cx="6219720" cy="5179680"/>
            <a:chOff x="1749240" y="1128600"/>
            <a:chExt cx="6219720" cy="5179680"/>
          </a:xfrm>
        </p:grpSpPr>
        <p:sp>
          <p:nvSpPr>
            <p:cNvPr id="242" name=""/>
            <p:cNvSpPr/>
            <p:nvPr/>
          </p:nvSpPr>
          <p:spPr>
            <a:xfrm flipH="1" rot="16200000">
              <a:off x="5361480" y="1616040"/>
              <a:ext cx="574920" cy="4604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494320" y="1793880"/>
              <a:ext cx="357120" cy="125280"/>
              <a:chOff x="5494320" y="1793880"/>
              <a:chExt cx="357120" cy="125280"/>
            </a:xfrm>
          </p:grpSpPr>
          <p:sp>
            <p:nvSpPr>
              <p:cNvPr id="244" name=""/>
              <p:cNvSpPr/>
              <p:nvPr/>
            </p:nvSpPr>
            <p:spPr>
              <a:xfrm flipH="1" flipV="1">
                <a:off x="5806080" y="1800000"/>
                <a:ext cx="45360" cy="6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5738400" y="1793880"/>
                <a:ext cx="68040" cy="12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5672880" y="1793880"/>
                <a:ext cx="68040" cy="12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5605200" y="1793880"/>
                <a:ext cx="68040" cy="12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5540040" y="1793880"/>
                <a:ext cx="68040" cy="12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5494320" y="1800000"/>
                <a:ext cx="45360" cy="6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638440" y="3040200"/>
              <a:ext cx="2523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5092200" y="2098800"/>
              <a:ext cx="127080" cy="357120"/>
              <a:chOff x="5092200" y="2098800"/>
              <a:chExt cx="127080" cy="357120"/>
            </a:xfrm>
          </p:grpSpPr>
          <p:sp>
            <p:nvSpPr>
              <p:cNvPr id="252" name=""/>
              <p:cNvSpPr/>
              <p:nvPr/>
            </p:nvSpPr>
            <p:spPr>
              <a:xfrm flipH="1" flipV="1">
                <a:off x="5098320" y="2410560"/>
                <a:ext cx="6300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5092200" y="234288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flipV="1">
                <a:off x="5092200" y="227736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092200" y="220968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flipV="1">
                <a:off x="5092200" y="214452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5098680" y="2098800"/>
                <a:ext cx="6300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162400" y="2455920"/>
              <a:ext cx="0" cy="582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62400" y="1863720"/>
              <a:ext cx="0" cy="23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54480" y="1857240"/>
              <a:ext cx="339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18160" y="1438200"/>
              <a:ext cx="1218960" cy="1265400"/>
            </a:xfrm>
            <a:prstGeom prst="rect">
              <a:avLst/>
            </a:prstGeom>
            <a:noFill/>
            <a:ln w="2232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97920" y="1979640"/>
              <a:ext cx="154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a186d"/>
                  </a:solidFill>
                  <a:latin typeface="Lucida Sans Unicode"/>
                </a:rPr>
                <a:t>System Controll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06800" y="1128600"/>
              <a:ext cx="7524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5ffff"/>
                  </a:solidFill>
                  <a:latin typeface="Lucida Sans Unicode"/>
                </a:rPr>
                <a:t>Activ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5ffff"/>
                  </a:solidFill>
                  <a:latin typeface="Lucida Sans Unicode"/>
                </a:rPr>
                <a:t>Modu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96960" y="5583240"/>
              <a:ext cx="38721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4392720" y="4848120"/>
              <a:ext cx="126720" cy="357120"/>
              <a:chOff x="4392720" y="4848120"/>
              <a:chExt cx="126720" cy="357120"/>
            </a:xfrm>
          </p:grpSpPr>
          <p:sp>
            <p:nvSpPr>
              <p:cNvPr id="266" name=""/>
              <p:cNvSpPr/>
              <p:nvPr/>
            </p:nvSpPr>
            <p:spPr>
              <a:xfrm flipH="1" flipV="1">
                <a:off x="4398840" y="5159880"/>
                <a:ext cx="6264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4392720" y="5092200"/>
                <a:ext cx="12672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flipV="1">
                <a:off x="4392720" y="5026680"/>
                <a:ext cx="12672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392720" y="4959000"/>
                <a:ext cx="12672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4392720" y="4893840"/>
                <a:ext cx="12672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4398840" y="4848120"/>
                <a:ext cx="6264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 flipH="1">
              <a:off x="4460400" y="5211720"/>
              <a:ext cx="180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62560" y="4613400"/>
              <a:ext cx="0" cy="231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46720" y="4606920"/>
              <a:ext cx="334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44160" y="2885040"/>
              <a:ext cx="578520" cy="276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RCV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17960" y="3863880"/>
              <a:ext cx="1254240" cy="1546200"/>
            </a:xfrm>
            <a:prstGeom prst="rect">
              <a:avLst/>
            </a:prstGeom>
            <a:noFill/>
            <a:ln w="2232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81640" y="1287360"/>
              <a:ext cx="12582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Sans Unicode"/>
                </a:rPr>
                <a:t>One Modu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Sans Unicode"/>
                </a:rPr>
                <a:t>Populat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19560" y="3878280"/>
              <a:ext cx="7524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5ffff"/>
                  </a:solidFill>
                  <a:latin typeface="Lucida Sans Unicode"/>
                </a:rPr>
                <a:t>Activ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5ffff"/>
                  </a:solidFill>
                  <a:latin typeface="Lucida Sans Unicode"/>
                </a:rPr>
                <a:t>Modu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6291000" y="4848120"/>
              <a:ext cx="127080" cy="357120"/>
              <a:chOff x="6291000" y="4848120"/>
              <a:chExt cx="127080" cy="357120"/>
            </a:xfrm>
          </p:grpSpPr>
          <p:sp>
            <p:nvSpPr>
              <p:cNvPr id="280" name=""/>
              <p:cNvSpPr/>
              <p:nvPr/>
            </p:nvSpPr>
            <p:spPr>
              <a:xfrm flipH="1" flipV="1">
                <a:off x="6297120" y="5159880"/>
                <a:ext cx="6300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6291000" y="509220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flipV="1">
                <a:off x="6291000" y="502668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291000" y="495900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flipV="1">
                <a:off x="6291000" y="489384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6297480" y="4848120"/>
                <a:ext cx="6300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6361200" y="5207040"/>
              <a:ext cx="0" cy="38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46800" y="4606920"/>
              <a:ext cx="0" cy="2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45360" y="4606920"/>
              <a:ext cx="57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6857640" y="4664160"/>
              <a:ext cx="127080" cy="357120"/>
              <a:chOff x="6857640" y="4664160"/>
              <a:chExt cx="127080" cy="357120"/>
            </a:xfrm>
          </p:grpSpPr>
          <p:sp>
            <p:nvSpPr>
              <p:cNvPr id="290" name=""/>
              <p:cNvSpPr/>
              <p:nvPr/>
            </p:nvSpPr>
            <p:spPr>
              <a:xfrm flipH="1" flipV="1">
                <a:off x="6863760" y="4975920"/>
                <a:ext cx="6300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6857640" y="490824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6857640" y="484272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6857640" y="477504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6857640" y="470988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6864120" y="4664160"/>
                <a:ext cx="6300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6857640" y="4203360"/>
              <a:ext cx="127080" cy="358920"/>
              <a:chOff x="6857640" y="4203360"/>
              <a:chExt cx="127080" cy="358920"/>
            </a:xfrm>
          </p:grpSpPr>
          <p:sp>
            <p:nvSpPr>
              <p:cNvPr id="297" name=""/>
              <p:cNvSpPr/>
              <p:nvPr/>
            </p:nvSpPr>
            <p:spPr>
              <a:xfrm flipH="1" flipV="1">
                <a:off x="6863760" y="4516560"/>
                <a:ext cx="63000" cy="45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6857640" y="4448160"/>
                <a:ext cx="12708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6857640" y="4383000"/>
                <a:ext cx="12708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6857640" y="4314600"/>
                <a:ext cx="12708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6857640" y="4249080"/>
                <a:ext cx="12708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6864120" y="4203360"/>
                <a:ext cx="63000" cy="45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6919920" y="4559400"/>
              <a:ext cx="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27840" y="4100400"/>
              <a:ext cx="0" cy="9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27840" y="5014800"/>
              <a:ext cx="0" cy="9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18960" y="5098320"/>
              <a:ext cx="55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Vss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84480" y="385200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V</a:t>
              </a:r>
              <a:r>
                <a:rPr b="1" lang="en-US" sz="900" spc="-1" strike="noStrike">
                  <a:solidFill>
                    <a:srgbClr val="ffffff"/>
                  </a:solidFill>
                  <a:latin typeface="Lucida Sans Unicode"/>
                </a:rPr>
                <a:t>DD</a:t>
              </a: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06120" y="4687200"/>
              <a:ext cx="55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150</a:t>
              </a:r>
              <a:r>
                <a:rPr b="1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14040" y="4228200"/>
              <a:ext cx="55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150</a:t>
              </a:r>
              <a:r>
                <a:rPr b="1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16600" y="3863880"/>
              <a:ext cx="1281240" cy="1546200"/>
            </a:xfrm>
            <a:prstGeom prst="rect">
              <a:avLst/>
            </a:prstGeom>
            <a:noFill/>
            <a:ln w="22320">
              <a:solidFill>
                <a:srgbClr val="edb2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67960" y="3827520"/>
              <a:ext cx="8010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9900"/>
                  </a:solidFill>
                  <a:latin typeface="Lucida Sans Unicode"/>
                </a:rPr>
                <a:t>Standb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9900"/>
                  </a:solidFill>
                  <a:latin typeface="Lucida Sans Unicode"/>
                </a:rPr>
                <a:t>Modu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49240" y="3906720"/>
              <a:ext cx="13482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Sans Unicode"/>
                </a:rPr>
                <a:t>Two Modu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Sans Unicode"/>
                </a:rPr>
                <a:t>Populat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rot="16200000">
              <a:off x="4675680" y="4376520"/>
              <a:ext cx="574560" cy="4604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4762440" y="4549320"/>
              <a:ext cx="357120" cy="125640"/>
              <a:chOff x="4762440" y="4549320"/>
              <a:chExt cx="357120" cy="125640"/>
            </a:xfrm>
          </p:grpSpPr>
          <p:sp>
            <p:nvSpPr>
              <p:cNvPr id="315" name=""/>
              <p:cNvSpPr/>
              <p:nvPr/>
            </p:nvSpPr>
            <p:spPr>
              <a:xfrm flipH="1" flipV="1">
                <a:off x="5074200" y="4555440"/>
                <a:ext cx="45360" cy="6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5006520" y="4549320"/>
                <a:ext cx="68040" cy="125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flipV="1">
                <a:off x="4941000" y="4549320"/>
                <a:ext cx="68040" cy="125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4873320" y="4549320"/>
                <a:ext cx="68040" cy="125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4808160" y="4549320"/>
                <a:ext cx="68040" cy="125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4762440" y="4555800"/>
                <a:ext cx="45360" cy="6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1922040" y="5468040"/>
              <a:ext cx="578520" cy="276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RCV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2830680" y="3088800"/>
              <a:ext cx="126720" cy="357480"/>
              <a:chOff x="2830680" y="3088800"/>
              <a:chExt cx="126720" cy="357480"/>
            </a:xfrm>
          </p:grpSpPr>
          <p:sp>
            <p:nvSpPr>
              <p:cNvPr id="323" name=""/>
              <p:cNvSpPr/>
              <p:nvPr/>
            </p:nvSpPr>
            <p:spPr>
              <a:xfrm flipH="1" flipV="1">
                <a:off x="2836800" y="3400920"/>
                <a:ext cx="6264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2830680" y="3333240"/>
                <a:ext cx="12672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flipV="1">
                <a:off x="2830680" y="3267720"/>
                <a:ext cx="12672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2830680" y="3200040"/>
                <a:ext cx="12672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2830680" y="3134520"/>
                <a:ext cx="12672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2836800" y="3088800"/>
                <a:ext cx="6264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2830680" y="2629440"/>
              <a:ext cx="126720" cy="358200"/>
              <a:chOff x="2830680" y="2629440"/>
              <a:chExt cx="126720" cy="358200"/>
            </a:xfrm>
          </p:grpSpPr>
          <p:sp>
            <p:nvSpPr>
              <p:cNvPr id="330" name=""/>
              <p:cNvSpPr/>
              <p:nvPr/>
            </p:nvSpPr>
            <p:spPr>
              <a:xfrm flipH="1" flipV="1">
                <a:off x="2836800" y="2942280"/>
                <a:ext cx="6264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2830680" y="2873880"/>
                <a:ext cx="12672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flipV="1">
                <a:off x="2830680" y="2808360"/>
                <a:ext cx="12672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2830680" y="2739960"/>
                <a:ext cx="12672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flipV="1">
                <a:off x="2830680" y="2674800"/>
                <a:ext cx="12672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2836800" y="2629440"/>
                <a:ext cx="6264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2892600" y="2979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0520" y="2511360"/>
              <a:ext cx="0" cy="9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00520" y="3440160"/>
              <a:ext cx="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03520" y="352332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V</a:t>
              </a:r>
              <a:r>
                <a:rPr b="1" lang="en-US" sz="900" spc="-1" strike="noStrike">
                  <a:solidFill>
                    <a:srgbClr val="ffffff"/>
                  </a:solidFill>
                  <a:latin typeface="Lucida Sans Unicode"/>
                </a:rPr>
                <a:t>SS</a:t>
              </a: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56800" y="227736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V</a:t>
              </a:r>
              <a:r>
                <a:rPr b="1" lang="en-US" sz="900" spc="-1" strike="noStrike">
                  <a:solidFill>
                    <a:srgbClr val="ffffff"/>
                  </a:solidFill>
                  <a:latin typeface="Lucida Sans Unicode"/>
                </a:rPr>
                <a:t>DD</a:t>
              </a: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83680" y="3112200"/>
              <a:ext cx="55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150</a:t>
              </a:r>
              <a:r>
                <a:rPr b="1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91600" y="2653560"/>
              <a:ext cx="55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150</a:t>
              </a:r>
              <a:r>
                <a:rPr b="1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2549160" y="5618160"/>
              <a:ext cx="127080" cy="357120"/>
              <a:chOff x="2549160" y="5618160"/>
              <a:chExt cx="127080" cy="357120"/>
            </a:xfrm>
          </p:grpSpPr>
          <p:sp>
            <p:nvSpPr>
              <p:cNvPr id="344" name=""/>
              <p:cNvSpPr/>
              <p:nvPr/>
            </p:nvSpPr>
            <p:spPr>
              <a:xfrm flipH="1" flipV="1">
                <a:off x="2555280" y="5929920"/>
                <a:ext cx="6300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2549160" y="586224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2549160" y="579672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2549160" y="572904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2549160" y="566388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2555640" y="5618160"/>
                <a:ext cx="6300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540160" y="5157360"/>
              <a:ext cx="126720" cy="358920"/>
              <a:chOff x="2540160" y="5157360"/>
              <a:chExt cx="126720" cy="358920"/>
            </a:xfrm>
          </p:grpSpPr>
          <p:sp>
            <p:nvSpPr>
              <p:cNvPr id="351" name=""/>
              <p:cNvSpPr/>
              <p:nvPr/>
            </p:nvSpPr>
            <p:spPr>
              <a:xfrm flipH="1" flipV="1">
                <a:off x="2546280" y="5470560"/>
                <a:ext cx="62640" cy="45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2540160" y="5402160"/>
                <a:ext cx="12672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flipV="1">
                <a:off x="2540160" y="5337000"/>
                <a:ext cx="12672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2540160" y="5268600"/>
                <a:ext cx="12672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2540160" y="5203080"/>
                <a:ext cx="12672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2546280" y="5157360"/>
                <a:ext cx="62640" cy="45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2606760" y="5516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11440" y="5070600"/>
              <a:ext cx="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04960" y="5972040"/>
              <a:ext cx="0" cy="9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29560" y="6031800"/>
              <a:ext cx="55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Vss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23440" y="478404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V</a:t>
              </a:r>
              <a:r>
                <a:rPr b="1" lang="en-US" sz="900" spc="-1" strike="noStrike">
                  <a:solidFill>
                    <a:srgbClr val="ffffff"/>
                  </a:solidFill>
                  <a:latin typeface="Lucida Sans Unicode"/>
                </a:rPr>
                <a:t>DD</a:t>
              </a: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97840" y="5709600"/>
              <a:ext cx="55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300</a:t>
              </a:r>
              <a:r>
                <a:rPr b="1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31320" y="5195160"/>
              <a:ext cx="55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300</a:t>
              </a:r>
              <a:r>
                <a:rPr b="1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83440" y="4467240"/>
              <a:ext cx="154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a186d"/>
                  </a:solidFill>
                  <a:latin typeface="Lucida Sans Unicode"/>
                </a:rPr>
                <a:t>System Controll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89000" y="2206800"/>
              <a:ext cx="1570320" cy="1546200"/>
            </a:xfrm>
            <a:prstGeom prst="rect">
              <a:avLst/>
            </a:prstGeom>
            <a:noFill/>
            <a:ln w="22320">
              <a:solidFill>
                <a:srgbClr val="0a18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90720" y="4695840"/>
              <a:ext cx="1569960" cy="1546200"/>
            </a:xfrm>
            <a:prstGeom prst="rect">
              <a:avLst/>
            </a:prstGeom>
            <a:noFill/>
            <a:ln w="22320">
              <a:solidFill>
                <a:srgbClr val="0a18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D48EE-9CD6-4E30-8F2C-D149E19EF1C2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4160" y="402840"/>
            <a:ext cx="74422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DDR2 I/O Buffer Modeling Challenges</a:t>
            </a:r>
            <a:br>
              <a:rPr sz="3200"/>
            </a:br>
            <a:r>
              <a:rPr b="0" lang="en-US" sz="20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Spice vs. IBIS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47520" y="1332000"/>
            <a:ext cx="7924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PICE model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ccurate, allow for PVT variation, over-clock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low simulation ti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7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BIS model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n closely match SPICE models for accurac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igher simulation 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ultiple simulator support, readily avai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9" name=""/>
          <p:cNvSpPr/>
          <p:nvPr/>
        </p:nvSpPr>
        <p:spPr>
          <a:xfrm>
            <a:off x="13762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7624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776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0964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192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002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476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338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76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004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05272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5718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7184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E871-A3B3-41CD-931F-A73F1523479B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20:55:19Z</dcterms:created>
  <dc:creator>Warren Hayden</dc:creator>
  <dc:description/>
  <dc:language>en-US</dc:language>
  <cp:lastModifiedBy> </cp:lastModifiedBy>
  <dcterms:modified xsi:type="dcterms:W3CDTF">2005-11-10T15:58:03Z</dcterms:modified>
  <cp:revision>15</cp:revision>
  <dc:subject/>
  <dc:title>Demonstrate Value of DDR2 Design Analysis Kits</dc:title>
</cp:coreProperties>
</file>