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F646-AB17-4BDE-992F-429FC2260E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904CF-A6B9-424B-B623-B3740E6D43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B19C7-E7F1-4CCE-9EB2-3DAA3C2727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CB406-29A2-44BE-9F62-7C828A4539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36EE6-E673-4A61-959B-82A3453753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03032-1CFD-4330-A816-18B43228A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4C94-3532-4DD1-9B38-056252E42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C12C-575C-4D19-964F-C822DD9A0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22B22-C1CA-45E0-947D-914417435C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9E17C-A9DB-4A35-8119-6C39CDF56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20F1-6BD3-445D-BB7D-A7E3E42C23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F6508-6222-4540-BACB-3A00462CA8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1447920" cy="6856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371600" y="0"/>
            <a:ext cx="152280" cy="838080"/>
          </a:xfrm>
          <a:prstGeom prst="rect">
            <a:avLst/>
          </a:prstGeom>
          <a:solidFill>
            <a:srgbClr val="00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5943600"/>
            <a:ext cx="1428840" cy="851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2971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B6C3-5C02-4E4A-8CD8-B753068EABCA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00200" y="457200"/>
            <a:ext cx="7164360" cy="612720"/>
            <a:chOff x="1600200" y="457200"/>
            <a:chExt cx="7164360" cy="612720"/>
          </a:xfrm>
        </p:grpSpPr>
        <p:sp>
          <p:nvSpPr>
            <p:cNvPr id="6" name=""/>
            <p:cNvSpPr/>
            <p:nvPr/>
          </p:nvSpPr>
          <p:spPr>
            <a:xfrm>
              <a:off x="8597880" y="457200"/>
              <a:ext cx="16668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600200" y="1042920"/>
              <a:ext cx="708192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664480" y="603360"/>
              <a:ext cx="3024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dpg_text_treatment" descr=""/>
          <p:cNvPicPr/>
          <p:nvPr/>
        </p:nvPicPr>
        <p:blipFill>
          <a:blip r:embed="rId3"/>
          <a:stretch/>
        </p:blipFill>
        <p:spPr>
          <a:xfrm>
            <a:off x="6400800" y="6324480"/>
            <a:ext cx="2590920" cy="37800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1429920" y="651024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-March-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2320" y="16002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BIS-X and the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BIS Macro Langu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5120" y="3428640"/>
            <a:ext cx="64008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uthor: Stephen P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&amp;T group, IBIS Vice-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ed by: Arpad Murany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tel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7080" y="6248520"/>
            <a:ext cx="99072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D0305-0E42-4BBF-9EEA-D744D29631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tended Blocks Beyond Sp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828800" y="1447920"/>
            <a:ext cx="67816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ed now for Supporting drivers &amp; receiver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v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 complex device for backward compatibilit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ha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generates a digital pulse, reshaped from it’s inpu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a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ut = in, but delay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oltage Controlled 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sible (likely) extensions for futur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al voltage source (“B” el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al current source (“B” elemen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ator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tor blo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al integ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havioral differenti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8C9FF-6E50-4303-9C3E-73BDA0F9D9B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Extended (.dot)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828440" y="1371600"/>
            <a:ext cx="65530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Creation/Functionality Rel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igg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ime value expression) – generates a trigger event when condition is m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loc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declares node name to be 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inheri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inherit properties of another model or base stru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/Visibility Rel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expo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list of local symbols that can be made visible to the u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alar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time value expression) – notifies user when some event happens, used for error checking and the li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asser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static logic expression) – check for a condition to be true, again for error chec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05CBA-5F07-4B66-9778-006B91FE12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re Extended (.dot)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33720" y="13716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(static logic express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elseif (static logic express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endi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c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end sel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array (name) – sets up an array of objects tied to a keyword.  Used to implement driver schedule and submodel func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A1400-201F-4C34-8D80-E671BA7726B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quation Based Model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400" y="1371240"/>
            <a:ext cx="60199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 equations (Berkley B-element) not supported directly in initial rel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oking for quick implementation/adoption using existing technolog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quation support planned for future release based on 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ever, no reason one can’t turn equations into tables which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up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hing in IBIS-ML prevents the support of equation based modeling (i.e. support for Berkley B-element) in future re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8ECF7-0C4E-46D9-8630-C36E7C2418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00200" y="129528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IS 3.2 has been implemented in IBIS-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ing group meets bi-weekly to work on writing formal specification(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verall IBIS-X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 gu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s Language Reference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ch work remains on die interconnect s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ordinating with IBIS connector spe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additional volunt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877AC-DC1C-4032-92AE-74EA921471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219320"/>
            <a:ext cx="693432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IBIS up against 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ription lagging new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support for return path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mited support for coupled package 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upport on horizon for receiver mod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upport for frequency domai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IS-X Goal: provide the path to a ‘next generation’ I/O buffer description langu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BE53C-9D59-4A4F-A7B3-978550BC2A2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BIS-X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48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he good stu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ized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ect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cument SI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e support for board level (behavioral) sim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and format, structure to fix problem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andability, flexibility (add nodal connectivity, get away from fixed assumptions and keywor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accurate modeling of SSO, power delivery and package e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rt behavioral recei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 generalized equations, S-paramete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B4833-4E7C-438F-9403-810323AF4C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BIS-X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120" y="1295280"/>
            <a:ext cx="723924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al descriptions are a neces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e interconnect (pin - pad - buffer) de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 delivery and pin-pin cou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ons for black box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ro language for creating new model proto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exible, extendable, allows existing IBIS models to be re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a wide variety of descri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ottom Line: user will have the ability to create his/her own custom buffer (model_type), and specify a package model in a standard form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5B45-3BAB-40F8-99DF-3CEB0204F1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view of Model Type Cre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52480" y="12952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creates a new model type using the [Define Model] key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describes new type using macro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rconnect L/R/C elements and sources, data/values are parameter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ing flow statements/operator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statements for trigger event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then instantiates model in .ibs file ([Model] statement) and supplies data for that instance, just a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F788-7AF3-45A4-80B5-2C14D3FC95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(define the model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216240" y="1219320"/>
          <a:ext cx="388620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6240" y="1219320"/>
                    <a:ext cx="388620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143080" y="3922560"/>
            <a:ext cx="6032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Define Model] simple_driver (gnd, pin, contro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local 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source (T1 gnd) V=Rise[T-TR] || Fall[T-T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source (pin T1) R=Rsrc[T-TR] || Rsrc[T-TF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trigger TR (Logic(control) == 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trigger TF (Logic(control) == 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End Define Mode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4FAC9-5195-478F-8D80-9798A3AE2B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 (supply the data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29256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Model] driver_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del_type simple_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Ris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urier New"/>
              <a:buAutoNum type="arabicPlain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Fall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Rsr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0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2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3.5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00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1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7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A4819-DE63-4655-8095-220CE570D94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0962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CE Compati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or (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v = f(I,t);  r=constant or f(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acitor (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q = f(v,t); c=constant or f(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ctor (L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flux = f(I,t); L= constant or f(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VS (E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Vout = f(Vin,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CCS (G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Iout = f(Vin,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ource (I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fixed I or I= f(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source (V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fixed V or V= f(t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ode (D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asic diode, subset of Spice paramete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ckt (X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sed for submodel, driver schedu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ed (some, but not all SPICE suppor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tage controlled Resistance (VCR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R = f(v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tage controlled Admittance (VCG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Y = f(v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tage controlled Cap (VCCAP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defines C = f(v)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coupled transmission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pled transmission li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DE17D-2D0E-441D-9654-C35C1CA908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Elements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09680" y="1219320"/>
            <a:ext cx="594360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tax for elements should be famili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ype&gt; &lt;instance name&gt; (&lt;nodes&gt;) &lt;value&g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stor  R12  (2  4)  R=10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 can take on several 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ple value (10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alar symbolic value (C_com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t-in symbolic value (V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the value of an internal variable, such as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D table symbolic (I=Pullup[V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D table symbolic (I=Pullup[V,T] or I=Series_mosfet[Vc,Vo]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ressions can be made of combinations of abov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ors are: +, -, *, || with usual binding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| is evaluated as in Perl, allows for optional data sets / key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 :  Vx (Vcc gnd)  V=(Pullup Reference) || (Voltage Ran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1F070-3DB4-4A2F-A5D7-CF898DD4E6B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9T22:08:00Z</dcterms:created>
  <dc:creator>sjpeters</dc:creator>
  <dc:description/>
  <dc:language>en-US</dc:language>
  <cp:lastModifiedBy>Arpad Muranyi</cp:lastModifiedBy>
  <dcterms:modified xsi:type="dcterms:W3CDTF">2001-03-09T00:50:07Z</dcterms:modified>
  <cp:revision>39</cp:revision>
  <dc:subject/>
  <dc:title>PowerPoint Presentation</dc:title>
</cp:coreProperties>
</file>