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4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232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4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232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240" y="-3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94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232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94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232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240" y="-3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00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6248520"/>
              <a:ext cx="91440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0"/>
            <a:ext cx="152280" cy="83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219320" y="457200"/>
            <a:ext cx="7697160" cy="612720"/>
            <a:chOff x="1219320" y="457200"/>
            <a:chExt cx="7697160" cy="612720"/>
          </a:xfrm>
        </p:grpSpPr>
        <p:sp>
          <p:nvSpPr>
            <p:cNvPr id="6" name=""/>
            <p:cNvSpPr/>
            <p:nvPr/>
          </p:nvSpPr>
          <p:spPr>
            <a:xfrm>
              <a:off x="8737560" y="457200"/>
              <a:ext cx="17892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19320" y="1042920"/>
              <a:ext cx="7608600" cy="2700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09200" y="603360"/>
              <a:ext cx="3240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"/>
          <p:cNvSpPr/>
          <p:nvPr/>
        </p:nvSpPr>
        <p:spPr>
          <a:xfrm>
            <a:off x="3886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E22D-C60C-4099-9AE2-5413AA3C8C0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7848720" y="6308640"/>
            <a:ext cx="129528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solidFill>
            <a:srgbClr val="00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1523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676520" y="2438280"/>
            <a:ext cx="7164360" cy="612720"/>
            <a:chOff x="1676520" y="2438280"/>
            <a:chExt cx="7164360" cy="612720"/>
          </a:xfrm>
        </p:grpSpPr>
        <p:sp>
          <p:nvSpPr>
            <p:cNvPr id="53" name=""/>
            <p:cNvSpPr/>
            <p:nvPr/>
          </p:nvSpPr>
          <p:spPr>
            <a:xfrm>
              <a:off x="8674200" y="2438280"/>
              <a:ext cx="16668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76520" y="3024360"/>
              <a:ext cx="7081560" cy="2664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740800" y="2584440"/>
              <a:ext cx="3024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990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0"/>
            <a:ext cx="152280" cy="83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848720" y="6308640"/>
            <a:ext cx="129528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cromodel Hierarch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951360" y="1174680"/>
            <a:ext cx="4847400" cy="4647600"/>
            <a:chOff x="3951360" y="1174680"/>
            <a:chExt cx="4847400" cy="4647600"/>
          </a:xfrm>
        </p:grpSpPr>
        <p:cxnSp>
          <p:nvCxnSpPr>
            <p:cNvPr id="97" name="_s58397"/>
            <p:cNvCxnSpPr>
              <a:stCxn id="98" idx="1"/>
              <a:endCxn id="99" idx="2"/>
            </p:cNvCxnSpPr>
            <p:nvPr/>
          </p:nvCxnSpPr>
          <p:spPr>
            <a:xfrm rot="10800000">
              <a:off x="6913800" y="4554360"/>
              <a:ext cx="269640" cy="84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58393"/>
            <p:cNvCxnSpPr>
              <a:stCxn id="101" idx="1"/>
              <a:endCxn id="102" idx="2"/>
            </p:cNvCxnSpPr>
            <p:nvPr/>
          </p:nvCxnSpPr>
          <p:spPr>
            <a:xfrm rot="10800000">
              <a:off x="4759200" y="4554360"/>
              <a:ext cx="269640" cy="84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58385"/>
            <p:cNvCxnSpPr>
              <a:stCxn id="99" idx="0"/>
              <a:endCxn id="104" idx="2"/>
            </p:cNvCxnSpPr>
            <p:nvPr/>
          </p:nvCxnSpPr>
          <p:spPr>
            <a:xfrm flipV="1" rot="16200000">
              <a:off x="6163560" y="2959560"/>
              <a:ext cx="423000" cy="1077840"/>
            </a:xfrm>
            <a:prstGeom prst="bentConnector5">
              <a:avLst>
                <a:gd name="adj1" fmla="val 354770"/>
                <a:gd name="adj2" fmla="val 196458"/>
                <a:gd name="adj3" fmla="val 452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58383"/>
            <p:cNvCxnSpPr>
              <a:stCxn id="102" idx="0"/>
              <a:endCxn id="104" idx="2"/>
            </p:cNvCxnSpPr>
            <p:nvPr/>
          </p:nvCxnSpPr>
          <p:spPr>
            <a:xfrm flipH="1" flipV="1" rot="5400000">
              <a:off x="5086440" y="2959920"/>
              <a:ext cx="423000" cy="1077480"/>
            </a:xfrm>
            <a:prstGeom prst="bentConnector5">
              <a:avLst>
                <a:gd name="adj1" fmla="val 354770"/>
                <a:gd name="adj2" fmla="val 196524"/>
                <a:gd name="adj3" fmla="val 452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58380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7039080" y="1759680"/>
              <a:ext cx="423000" cy="942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58379"/>
            <p:cNvCxnSpPr>
              <a:stCxn id="104" idx="0"/>
              <a:endCxn id="108" idx="2"/>
            </p:cNvCxnSpPr>
            <p:nvPr/>
          </p:nvCxnSpPr>
          <p:spPr>
            <a:xfrm flipH="1" flipV="1" rot="5400000">
              <a:off x="6096240" y="1759680"/>
              <a:ext cx="423000" cy="943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58375"/>
            <p:cNvSpPr/>
            <p:nvPr/>
          </p:nvSpPr>
          <p:spPr>
            <a:xfrm>
              <a:off x="5971320" y="117468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[External Circuit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[External Model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58376"/>
            <p:cNvSpPr/>
            <p:nvPr/>
          </p:nvSpPr>
          <p:spPr>
            <a:xfrm>
              <a:off x="5028480" y="244224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em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PRE_EMPH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58377"/>
            <p:cNvSpPr/>
            <p:nvPr/>
          </p:nvSpPr>
          <p:spPr>
            <a:xfrm>
              <a:off x="6913800" y="244224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em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DIFF_RCVR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58382"/>
            <p:cNvSpPr/>
            <p:nvPr/>
          </p:nvSpPr>
          <p:spPr>
            <a:xfrm>
              <a:off x="3951360" y="370980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uildin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lock</a:t>
              </a:r>
              <a:br>
                <a:rPr sz="14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VSOURC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58384"/>
            <p:cNvSpPr/>
            <p:nvPr/>
          </p:nvSpPr>
          <p:spPr>
            <a:xfrm>
              <a:off x="6105960" y="370980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uildin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lock</a:t>
              </a:r>
              <a:br>
                <a:rPr sz="14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BUFFER_I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58392"/>
            <p:cNvSpPr/>
            <p:nvPr/>
          </p:nvSpPr>
          <p:spPr>
            <a:xfrm>
              <a:off x="5028480" y="497736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E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58396"/>
            <p:cNvSpPr/>
            <p:nvPr/>
          </p:nvSpPr>
          <p:spPr>
            <a:xfrm>
              <a:off x="7183080" y="497736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eg. B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236600" y="2166840"/>
            <a:ext cx="7574040" cy="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44520" y="3432240"/>
            <a:ext cx="7574040" cy="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52440" y="4764240"/>
            <a:ext cx="7574040" cy="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4680" y="1258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BIS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87360" y="2265480"/>
            <a:ext cx="337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External Circuit]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External Model] ca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cro model templ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69080" y="3571920"/>
            <a:ext cx="250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cro model templat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ll building blocks fro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ndard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01120" y="4994280"/>
            <a:ext cx="307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ilding blocks are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ing the analog only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f the *-AMS languages,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n be substituted with n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ICE elements in SPICE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necess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745400" y="328140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14160" y="3441600"/>
            <a:ext cx="35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22:38:46Z</dcterms:created>
  <dc:creator>Samuel J Goldberg</dc:creator>
  <dc:description/>
  <dc:language>en-US</dc:language>
  <cp:lastModifiedBy>Mike LaBonte</cp:lastModifiedBy>
  <dcterms:modified xsi:type="dcterms:W3CDTF">2005-06-08T13:47:27Z</dcterms:modified>
  <cp:revision>15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